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09F-81B1-45E1-9B94-0A74E9A3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FAC-1562-4C7D-A2F7-8D7DD5C5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C42-C2BF-451E-927A-06056FD4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B15-3695-45AF-9EDE-5EEF34C2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431-3F49-49EC-9F86-B3AA291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1E7-5D3C-4E97-B98C-5C45CE69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47C-2AED-448C-B2DB-5EFFECA7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961-CF36-4044-865E-C4726AB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A6E-1AD0-4393-BE23-E65FD41B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1AF-7F88-4EEF-8E5F-80BE5EB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AB2-B272-4583-BEDF-E9F4272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5CB-8AC1-4AA7-B940-FDA8D34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62C4-22F9-4256-8872-0CF536E8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260280"/>
            <a:ext cx="8570880" cy="6289920"/>
            <a:chOff x="250920" y="260280"/>
            <a:chExt cx="8570880" cy="6289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198252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826920" y="1341360"/>
              <a:ext cx="7632720" cy="410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SATURDAY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NIGHT 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MURDE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020000" y="5157720"/>
              <a:ext cx="1801800" cy="13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54:36Z</dcterms:created>
  <dc:creator>bourgau</dc:creator>
  <dc:description/>
  <dc:language>en-US</dc:language>
  <cp:lastModifiedBy>bourgau</cp:lastModifiedBy>
  <dcterms:modified xsi:type="dcterms:W3CDTF">2013-05-06T20:02:23Z</dcterms:modified>
  <cp:revision>2</cp:revision>
  <dc:subject/>
  <dc:title>Diapositive 1</dc:title>
</cp:coreProperties>
</file>